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A07-DB49-498E-9812-742A8717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B65-7E37-48C4-887E-45281D88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D14-FD69-4073-AB60-D761D2CB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042-F218-4004-84A5-810CED79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FEB-9340-49DC-A904-4E580404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B3D-4DFF-4DC5-ADB7-FF166A35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7DF-0EDA-4D38-943A-4D09020F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51E-5BF8-4933-B320-09A71734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773-857D-499F-BF4D-1091B549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C09-A567-4020-8E63-FADA58B6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036-FCD3-403E-A37B-D89FF7E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091-797F-469D-B352-46D87F3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9F85-DB36-4E58-A00F-75F5014B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bay.com/itm/Original-Lava-Lamp-/170696203921?pt=LH_DefaultDomain_0&amp;hash=item27be495e9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bay.com/sch/i.html?_nkw=original+lava+lamp" TargetMode="External"/><Relationship Id="rId4" Type="http://schemas.openxmlformats.org/officeDocument/2006/relationships/hyperlink" Target="http://www.ebay.com/sch/i.html?_nkw=original+lava+lamp" TargetMode="External"/><Relationship Id="rId5" Type="http://schemas.openxmlformats.org/officeDocument/2006/relationships/hyperlink" Target="http://www.ebay.com/sch/i.html?_nkw=original+lava+lamp" TargetMode="External"/><Relationship Id="rId6" Type="http://schemas.openxmlformats.org/officeDocument/2006/relationships/hyperlink" Target="http://www.ebay.com/sch/i.html?_nkw=original+lava+lamp" TargetMode="External"/><Relationship Id="rId7" Type="http://schemas.openxmlformats.org/officeDocument/2006/relationships/hyperlink" Target="http://www.freeplaymusic.com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43600">
            <a:off x="1392120" y="899640"/>
            <a:ext cx="67057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100000">
                      <a:srgbClr val="ff3399"/>
                    </a:gs>
                  </a:gsLst>
                  <a:lin ang="5754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Lava Lamp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100000">
                    <a:srgbClr val="ff3399"/>
                  </a:gs>
                </a:gsLst>
                <a:lin ang="5754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4114800"/>
            <a:ext cx="2133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e T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September 1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40" descr="Item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38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5334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a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riginal Lava L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. 20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bay.com/sch/i.html?_nkw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iginal+lava+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Craven Wa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0880"/>
            <a:ext cx="426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lse 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pt. 22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8769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78035E-008 C -0.00469 0.00648 -0.00347 0.00948 -0.00955 0.0148 C -0.01615 0.02844 -0.02813 0.03445 -0.03976 0.03815 C -0.05521 0.04856 -0.07031 0.05549 -0.08733 0.05919 C -0.13281 0.05757 -0.13125 0.0585 -0.16042 0.05087 C -0.1724 0.04393 -0.18455 0.04139 -0.19688 0.03607 C -0.20295 0.02775 -0.20903 0.02382 -0.21597 0.01711 C -0.21701 0.01503 -0.21771 0.01249 -0.2191 0.01064 C -0.22049 0.00879 -0.22257 0.00856 -0.22378 0.00648 C -0.22483 0.00463 -0.22448 0.00185 -0.22535 5.78035E-008 C -0.22882 -0.0067 -0.23524 -0.01526 -0.23976 -0.02104 C -0.24167 -0.02844 -0.24531 -0.03098 -0.24757 -0.03792 C -0.25295 -0.05364 -0.25625 -0.06982 -0.26354 -0.08439 C -0.26649 -0.09641 -0.26458 -0.08832 -0.26823 -0.10774 C -0.26875 -0.11052 -0.26927 -0.11329 -0.26979 -0.11607 C -0.27031 -0.11884 -0.27153 -0.12462 -0.27153 -0.12462 C -0.27135 -0.13549 -0.28073 -0.21318 -0.25556 -0.22404 C -0.25035 -0.23329 -0.24549 -0.24277 -0.23819 -0.24925 C -0.2342 -0.25271 -0.22934 -0.25433 -0.22535 -0.2578 C -0.22309 -0.25965 -0.22153 -0.26289 -0.2191 -0.26404 C -0.2151 -0.26589 -0.21059 -0.26566 -0.20642 -0.26636 C -0.18594 -0.27514 -0.16372 -0.27653 -0.14288 -0.28323 C -0.11892 -0.30404 -0.08316 -0.30982 -0.05556 -0.31491 C -0.03125 -0.32578 0.00295 -0.32208 0.02691 -0.32323 C 0.06059 -0.32208 0.09132 -0.32208 0.12378 -0.31491 C 0.14323 -0.30173 0.16389 -0.28948 0.1809 -0.27052 C 0.18872 -0.26173 0.18316 -0.26705 0.18889 -0.2578 C 0.19618 -0.24601 0.19062 -0.25641 0.19844 -0.24716 C 0.21267 -0.23029 0.20243 -0.23815 0.21424 -0.23029 C 0.2158 -0.22751 0.21719 -0.22427 0.2191 -0.22196 C 0.22135 -0.21919 0.22483 -0.21849 0.22691 -0.21549 C 0.23003 -0.2111 0.2316 -0.20508 0.2349 -0.20069 C 0.23646 -0.19861 0.23802 -0.19653 0.23958 -0.19445 C 0.24219 -0.18497 0.24653 -0.17734 0.25069 -0.16901 C 0.25521 -0.16 0.25521 -0.14797 0.25712 -0.13734 C 0.25833 -0.13063 0.26181 -0.12485 0.26354 -0.11838 C 0.26476 -0.11422 0.26528 -0.10982 0.26667 -0.10566 C 0.2691 -0.09849 0.27465 -0.08439 0.27465 -0.08439 C 0.27726 -0.07075 0.28142 -0.05803 0.28403 -0.04439 C 0.28299 -0.01549 0.28247 0.01341 0.2809 0.04231 C 0.2776 0.10405 0.27951 0.05364 0.27622 0.08047 C 0.2724 0.11214 0.2724 0.15307 0.24757 0.16925 C 0.23194 0.19006 0.25243 0.16463 0.23802 0.17757 C 0.23611 0.17919 0.23507 0.1822 0.23333 0.18405 C 0.23177 0.18567 0.23003 0.18682 0.22847 0.18821 C 0.22691 0.19099 0.22587 0.19468 0.22378 0.19677 C 0.22205 0.19838 0.21927 0.19746 0.21736 0.19885 C 0.2151 0.20047 0.21337 0.20347 0.21111 0.20509 C 0.20677 0.20833 0.2 0.20994 0.19514 0.21156 C 0.17934 0.21087 0.16337 0.21087 0.14757 0.20948 C 0.13993 0.20879 0.1309 0.2 0.12378 0.19677 C 0.11701 0.18705 0.10434 0.1859 0.09514 0.17989 C 0.09097 0.17388 0.08559 0.17226 0.0809 0.16717 C 0.07639 0.16231 0.07465 0.15492 0.06979 0.15029 C 0.06788 0.14844 0.06562 0.14752 0.06354 0.1459 C 0.06181 0.14451 0.06024 0.14336 0.05868 0.14174 C 0.0559 0.13896 0.05365 0.13549 0.05069 0.13318 C 0.0467 0.12994 0.03802 0.12486 0.03802 0.12486 C 0.03385 0.1163 0.02986 0.10914 0.02535 0.10151 C 0.0217 0.09526 0.02031 0.0881 0.0158 0.08255 C 0.01215 0.06752 0.01458 0.07353 0.00955 0.06359 C 0.00781 0.05642 0.00486 0.05364 0.00312 0.04671 C -0.00052 0.01156 3.88889E-006 0.02705 3.88889E-006 5.78035E-008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alker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243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267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’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aven Walk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19, 2011 http://web.mit.edu/invent/iow/ecwalk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33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ven Walker invented the Lava L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Lava 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20 minutes of the lamp on the lava begins to heat and exp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ld, with the lamp turned off, the lava inside is a hard mass at the bottom of the glass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t cools from a heat source, it begins to f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eats over and over, creating a constant changing scene of waves of color moving up and down inside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Craven Wal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er was born in Singapore on July 4,19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established the UK’s most well-known nudist colony, the District Naturist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inspired to make the lamp when he saw an egg timer in Eng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began marketing the lamp in Europe in 1963, with the name of Astro L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er patented his own design in England in 19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er died at the age 82 in England on August 15,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7:10Z</dcterms:created>
  <dc:creator>install</dc:creator>
  <dc:description/>
  <dc:language>en-US</dc:language>
  <cp:lastModifiedBy>install</cp:lastModifiedBy>
  <dcterms:modified xsi:type="dcterms:W3CDTF">2011-09-26T13:56:41Z</dcterms:modified>
  <cp:revision>8</cp:revision>
  <dc:subject/>
  <dc:title>Slide 1</dc:title>
</cp:coreProperties>
</file>